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0E872-864D-476D-BB5E-0DAB996B2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52FA5-D7BB-47FF-AFF8-F4C67245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EBDA-522F-4FF6-974A-FAABEE860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BB4A-804C-41BE-8923-F4E62564B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93FC-A681-4354-9241-C51D76ACC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8BC4-A26E-4EF2-9293-0F8FC210A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009C-D748-4685-AD42-1B869A0C8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FBB4-E958-4033-815B-FAD283F7C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E9EE-D951-447E-9859-E159E0A84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F22B-FEE8-4D20-8EC3-F9DFDA646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CD3A-6790-411A-BC42-0AB01AFFF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0DD5-0941-4947-AF99-024BEAA61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5B52-25D1-4DCA-A262-A1D40692A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1A0CF-B923-44E7-807E-B9C398B2E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08640"/>
            <a:ext cx="2133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0E63B-6910-4DDB-8C2F-7754CA5BBB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5: A Few More Principles/Cognitive Psychology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ty - authenticity, 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ptivity - change, pers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- not just product bu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ersion - feeling of wholeness, transportation else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- clear, fluid, seamless use and transitions among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t Elements of Cognitive Psyc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(sensory, working and long-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stal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 and persua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mory is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ive/Add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/Short-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term storage - 30 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hearsal and repetition - visual and spa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nking” - mnemonics and relations help memoriz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ng-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 unlimited 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tered - most working memory is dum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- we remember things in context and connection - whether the connections make sense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modal and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all and Recog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ll - specific “bits” and their retri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- relational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are not good at recall, excellent at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s are not good at recognition, excellent at re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g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memory - decay and dis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-term – changes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oactive (new information corrupts connections to 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active (previous information confounds absorption of n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romised networks (e.g., neurological disord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sential to human activity - a lot of “human error” can be traced to inappropriate or unfocused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memory, complex as well, influenced by man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rolled vs. Automa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led - focused but limited, slow but thorough, hard to sustain for long periods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- fast, allows for multitasking, nearly subconscious - but also vague and sporad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ntral/peripheral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gi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/physical work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ss and fru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ing things to atten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pres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8160" cy="12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min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360" indent="-682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on first assignment up on wiki – some discussion and examples in lab ton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ing on cognitive psychology and Design - Ch. 5, 6, 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incip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p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sive/universal design principles to address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ing ability is the norm, not the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s for people with disabilities work for others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al user experience is affected by design constraints and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s of Universal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ort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st right” size and space (p. 5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ssibility Decision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hard to design everything for everyone - how to dec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/changing - is difference innate and immutable, or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/rare - is difference a reasonably common occur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ap/Expensive - what is the cost of accommod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cep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s of product acceptability/adoption – strongly influenced by the right mix of 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balance more complex than most designers or businesspeople care to admit – many factors unknown or unknow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fluencing Accep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al - trust, organization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work effects – social diffusion of innovations, hubs/links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ence – sufficiently easy, effort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 or social habits – violation and/or evolution of social n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ness - relevance to activities in contex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conomic - price points, changes in business mode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on of bond, attachment - a feeling of personal relationship, even anthropomorphism (example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 of both aesthetics and us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38:27Z</dcterms:created>
  <dc:creator/>
  <dc:description/>
  <dc:language>en-US</dc:language>
  <cp:lastModifiedBy>Sheridan College</cp:lastModifiedBy>
  <dcterms:modified xsi:type="dcterms:W3CDTF">2009-01-26T20:05:56Z</dcterms:modified>
  <cp:revision>19</cp:revision>
  <dc:subject/>
  <dc:title>CCT 333: Imagining the Audience in a Wired World</dc:title>
</cp:coreProperties>
</file>